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ACD-DCE3-4782-B98B-AC5C320B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294-B1A4-44F2-AC3B-080D03C0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E3D-BC91-441B-B0FC-4DF34D64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6EA-B002-4DF3-9373-298FF31D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127D-C10B-4A6C-A4B2-4EB06116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319A-647C-443B-944E-66A680BF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D121-D0B0-4985-BA6D-7F565291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6105-D17A-475A-B245-6101314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4DA-4F09-4C7F-AFFA-79F98D8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AA1D-0D06-4601-84CA-0F463E12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FE80-BE31-4F83-B0CD-B098682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48F-07CB-4A79-AAD1-54A958E4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F74B-119D-4F20-94B9-C0E7D9A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A3B2-C44B-45E5-9CC2-5A0C19B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BC92-A768-4F8A-9763-97DA0D49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6C6B-5121-433A-B025-830B5D91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A543-4D7E-4615-9271-9DC282D0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51D-31AC-496B-AD8F-F981F40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DA4-BE73-4922-B058-3361A50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605-A529-43E2-AD12-698C2A52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C57-72A9-448E-8861-0CF2C00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798-2E9D-4A4D-BDF1-B2075DA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CD2-5EB3-452D-9835-E42F038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69B-D0E7-40ED-B9F3-667AE29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3D5F-2304-46E9-B810-DBE7593D27E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B8A-392B-45B8-84DD-EC7E1BF7E5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es, Questions, and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dvance Organiz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hance students’ ability to retrieve, use and organize what they already know about a topi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Focus on what is important and higher level ques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Wait time increases depth of answ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dvanced organizers are most useful with information that is not well organiz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49080" y="4781520"/>
            <a:ext cx="1239480" cy="1764360"/>
            <a:chOff x="6049080" y="4781520"/>
            <a:chExt cx="1239480" cy="1764360"/>
          </a:xfrm>
        </p:grpSpPr>
        <p:sp>
          <p:nvSpPr>
            <p:cNvPr id="195" name="_s2060"/>
            <p:cNvSpPr/>
            <p:nvPr/>
          </p:nvSpPr>
          <p:spPr>
            <a:xfrm flipH="1">
              <a:off x="6370560" y="6002280"/>
              <a:ext cx="148320" cy="136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_s2059"/>
            <p:cNvSpPr/>
            <p:nvPr/>
          </p:nvSpPr>
          <p:spPr>
            <a:xfrm>
              <a:off x="6049080" y="600300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_s2058"/>
            <p:cNvSpPr/>
            <p:nvPr/>
          </p:nvSpPr>
          <p:spPr>
            <a:xfrm>
              <a:off x="6818040" y="6003000"/>
              <a:ext cx="149040" cy="1350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_s2057"/>
            <p:cNvSpPr/>
            <p:nvPr/>
          </p:nvSpPr>
          <p:spPr>
            <a:xfrm>
              <a:off x="6944040" y="600228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_s2056"/>
            <p:cNvSpPr/>
            <p:nvPr/>
          </p:nvSpPr>
          <p:spPr>
            <a:xfrm flipV="1">
              <a:off x="6669000" y="5324400"/>
              <a:ext cx="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_s2055"/>
            <p:cNvSpPr/>
            <p:nvPr/>
          </p:nvSpPr>
          <p:spPr>
            <a:xfrm>
              <a:off x="6496560" y="478152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6496560" y="559584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6:04Z</dcterms:created>
  <dc:creator>workstation</dc:creator>
  <dc:description/>
  <dc:language>en-US</dc:language>
  <cp:lastModifiedBy>workstation</cp:lastModifiedBy>
  <dcterms:modified xsi:type="dcterms:W3CDTF">2010-08-03T14:36:11Z</dcterms:modified>
  <cp:revision>2</cp:revision>
  <dc:subject/>
  <dc:title>Cues, Questions, and  Advance Organizers</dc:title>
</cp:coreProperties>
</file>